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125E-0F5F-44A6-8D95-04D977460B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2B12-D51E-4DC5-9CA5-487308350F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E009-DD44-44E8-9EE5-26B4F52343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A882-FFE4-4D18-BE51-A79AB4C39F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CA84-378A-429D-A092-A2CAE90F7F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E84E-8A4D-4AC3-9DAA-6DA64A836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9760-BD5F-420B-B3C6-6718C73B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F520-5411-43A6-A382-7DD0256FE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700F-C15D-4A99-AB34-3FB510672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B655-4FBA-4C12-B876-60D472D6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F8B2-FAF8-4D12-8256-67E30407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DBA8-1063-48BD-B5A6-8A6E253F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7BE9-7BBF-4312-B8DC-3FB0C2D0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F81E-4A37-4EC3-A807-3F8B013E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2490-D056-47A9-8428-DB2AC9B3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399F-98CB-4107-B198-49E4ADB9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DDD0-E966-4A9A-9FE6-5AC7DD89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5BB5-72A4-47A0-BD83-BE756D09C6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BFC1-EC04-462B-B83F-37E041393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 7240-9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Melba W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Placeholder 4" descr="5A2EKCA64FR6MCAT5VWD5CAWW9SF1CA11C1TRCAD27YLOCABHMHFQCA7OD8T0CAAE5LFICASACBCGCAQ0OVBUCANWLS6FCA6M3J1CCA2O306SCANH7WI1CADU55V6CA87IBY6CA4UW4LVCAXJJOX3CANJC3QC.jpg"/>
          <p:cNvPicPr/>
          <p:nvPr/>
        </p:nvPicPr>
        <p:blipFill>
          <a:blip r:embed="rId1"/>
          <a:srcRect l="5667" t="0" r="5667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elba Wad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sical and Chemical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Mrs. M. W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sical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9360">
            <a:solidFill>
              <a:srgbClr val="a6a6a6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ffects only the physical proper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4698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mical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9360">
            <a:solidFill>
              <a:srgbClr val="c3d69b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ew substance is m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ce Melting  - Physical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Placeholder 4" descr="images.jpg"/>
          <p:cNvPicPr/>
          <p:nvPr/>
        </p:nvPicPr>
        <p:blipFill>
          <a:blip r:embed="rId1"/>
          <a:srcRect l="0" t="19239" r="0" b="19239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o New Substance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re indicates a chemical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Placeholder 4" descr="fireplace.jpg"/>
          <p:cNvPicPr/>
          <p:nvPr/>
        </p:nvPicPr>
        <p:blipFill>
          <a:blip r:embed="rId1"/>
          <a:srcRect l="0" t="5639" r="0" b="5639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ew Substance form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vie from the W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sical and   Chemical Cha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youtube.com/watch?v=5yjEDihEuZ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 vide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dpsscienceteachers.ning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Netwo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dpsscienceteachers.ning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dpsscienceteachers.wikispaces.com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twitter.com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08:55:59Z</dcterms:created>
  <dc:creator>Melba Wade</dc:creator>
  <dc:description/>
  <dc:language>en-US</dc:language>
  <cp:lastModifiedBy>College of Education</cp:lastModifiedBy>
  <dcterms:modified xsi:type="dcterms:W3CDTF">2009-08-08T19:32:58Z</dcterms:modified>
  <cp:revision>19</cp:revision>
  <dc:subject/>
  <dc:title>Physical and Chemical Changes</dc:title>
</cp:coreProperties>
</file>